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9.jpeg" ContentType="image/jpeg"/>
  <Override PartName="/ppt/media/image1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43.jpeg" ContentType="image/jpeg"/>
  <Override PartName="/ppt/media/image27.jpeg" ContentType="image/jpeg"/>
  <Override PartName="/ppt/media/image50.jpeg" ContentType="image/jpeg"/>
  <Override PartName="/ppt/media/image10.png" ContentType="image/png"/>
  <Override PartName="/ppt/media/image29.png" ContentType="image/png"/>
  <Override PartName="/ppt/media/image46.png" ContentType="image/png"/>
  <Override PartName="/ppt/media/image51.png" ContentType="image/png"/>
  <Override PartName="/ppt/media/image45.jpeg" ContentType="image/jpeg"/>
  <Override PartName="/ppt/media/image55.png" ContentType="image/png"/>
  <Override PartName="/ppt/media/image47.jpeg" ContentType="image/jpeg"/>
  <Override PartName="/ppt/media/image52.jpeg" ContentType="image/jpeg"/>
  <Override PartName="/ppt/media/image41.png" ContentType="image/png"/>
  <Override PartName="/ppt/media/image48.jpeg" ContentType="image/jpeg"/>
  <Override PartName="/ppt/media/image53.png" ContentType="image/png"/>
  <Override PartName="/ppt/media/image58.jpeg" ContentType="image/jpeg"/>
  <Override PartName="/ppt/media/image57.png" ContentType="image/png"/>
  <Override PartName="/ppt/media/image59.jpeg" ContentType="image/jpeg"/>
  <Override PartName="/ppt/media/image44.png" ContentType="image/png"/>
  <Override PartName="/ppt/media/image40.jpeg" ContentType="image/jpeg"/>
  <Override PartName="/ppt/media/image34.png" ContentType="image/png"/>
  <Override PartName="/ppt/media/image33.png" ContentType="image/png"/>
  <Override PartName="/ppt/media/image56.jpeg" ContentType="image/jpeg"/>
  <Override PartName="/ppt/media/image6.png" ContentType="image/png"/>
  <Override PartName="/ppt/media/image36.png" ContentType="image/png"/>
  <Override PartName="/ppt/media/image30.jpeg" ContentType="image/jpeg"/>
  <Override PartName="/ppt/media/image54.jpeg" ContentType="image/jpeg"/>
  <Override PartName="/ppt/media/image13.png" ContentType="image/png"/>
  <Override PartName="/ppt/media/image8.png" ContentType="image/png"/>
  <Override PartName="/ppt/media/image3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Situation in the photo is not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A511C-771E-4760-BCDB-056783464670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Arial"/>
              </a:rPr>
              <a:t>Situation in the photo is not re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EBA6-E499-4B47-B076-E5638AB2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85E-159E-471D-A61B-596570B8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5BA3-FBAE-497B-A201-A65DD96BC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5804-6245-403D-A63B-A78855E6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E0B0-4A34-4DC4-8000-2A6FD619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A40E-E5B5-43EA-A81B-AD2BEE90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EB95-AA8D-447C-9AE6-65E0042A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D60B-45E2-43D6-A993-DF6321CA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8060-60A7-4F91-8227-A2FDB3171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51EE1-853D-406A-A24F-2A5704BC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8004-A5A1-434E-A7F2-51D8C6ED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1E7-EAC8-49F2-B2D9-3029513A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A231-EDA0-4F17-BBAB-9498B3F5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AF07-F92D-489D-ACFA-A393149D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A1C3-01BC-417F-9CC3-42C864C88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C5CF2-1B7A-4B6C-B196-398D8C982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AAAB-A1D6-4BD4-8FC0-2449F7077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D7CA4-F006-46B3-92F1-ED266A8C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75135-78FA-41B5-9281-A5C59F17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2775-0524-43A1-92D3-BCF3A9DF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87A0-0DC0-466B-8BCE-190A418A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D1749-CDFB-4EE9-A0DB-5D0BAB23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E5D-C212-44E4-9097-2549EB3E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0880D-8C1E-4C00-9007-D3F403F4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2D71E-F945-491E-A682-3EE6435E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04C15-A9C7-4300-AEF4-02DAEDB0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99023-955D-4819-B787-5A5EF9EB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6E1FE-D438-495E-B2CD-9AE38060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E2570-FBAA-45EC-9A58-581AD5BC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719C4-0E1E-4048-BF81-E3169603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EADC1-5A20-4432-852A-8AE025D4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2FDAE-FF13-4B07-A5B7-00F0F666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0DAEC-DF63-46BE-BB1A-71306DA4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D180-B313-41F1-AB06-E3573C7D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C0C61-BAE4-4484-9B61-E42DBC1A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E7FB1-DF9E-4FDB-B896-0EAB84E3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B6F53-1E1E-4A7C-8FA8-6217AB03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528FE-AAC1-44B9-9EE0-D2683E5C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587CB-588C-464D-9485-F1ECF239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38F6A-5943-4170-B77B-14E89CCE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086A1-712A-4159-A36F-2AC4C251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07B2-0BD9-405A-98CD-294D3DED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4DFE5-58F3-4F78-A6D8-B8CD550D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32AD6-F207-4B5E-B5C0-4B18C60C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63F-32AB-4DA5-B935-2B2E7DD5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E729A-479C-488C-BDBC-DF7CD12D5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C3A7C-F827-4649-9D7B-D1D4999E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9A0D3-B64C-4A8B-81ED-E9512D29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AED5-610E-4587-B63C-778FC979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F0ACE-199F-4B54-B9DB-9ED152D0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63CB5-608C-4112-9432-3618A57A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DB102-CD5A-42D8-953D-4A403AE3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C49C3-681A-48F8-A01A-36B53B0A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882DF-4EEE-44A2-9F73-4CF19FD8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42BFC-7999-4BE9-805D-DFDAFB90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B59C-65C1-43FB-9F56-FAFAD643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07879-E79F-469E-972D-852DE530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C19B-F5F6-4FC3-89D6-2E7E71C3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D46-C947-4EFF-BEED-70894F86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F916-8C7D-4EAD-B9CE-6158FB3C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68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716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1560" indent="-22716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0160" indent="-22716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0160" indent="-22716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0160" indent="-22716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0D89-6D77-4C92-9852-83286556115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716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1560" indent="-22716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0160" indent="-22716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0160" indent="-22716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0160" indent="-22716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6DC8-3E3C-41DA-9065-3147AD31C1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1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Straight Connector 11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94" name="Chevron 12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hevron 13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716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1560" indent="-22716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0160" indent="-22716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0160" indent="-22716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0160" indent="-22716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55C6-5C87-49ED-AE49-622BBEC0EA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ight Tri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0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Straight Connector 11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68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716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1560" indent="-22716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0160" indent="-22716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0160" indent="-22716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0160" indent="-22716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D26B-547A-434D-B78C-67146EEF98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68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716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1560" indent="-22716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0160" indent="-22716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0160" indent="-22716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0160" indent="-22716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318E-7531-4E42-9799-D91BF10635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Filmas.wmv" TargetMode="External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Krep&#353;inis.avi" TargetMode="External"/><Relationship Id="rId2" Type="http://schemas.openxmlformats.org/officeDocument/2006/relationships/hyperlink" Target="file:///Krep&#353;inis.avi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785360" cy="286524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85800" y="3613320"/>
            <a:ext cx="7772400" cy="119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marL="10944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200" spc="-1" strike="noStrike">
                <a:solidFill>
                  <a:srgbClr val="464646"/>
                </a:solidFill>
                <a:latin typeface="Lucida Sans Unicode"/>
              </a:rPr>
              <a:t>Kotryna Mikalauskait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2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0" lang="lt-LT" sz="2200" spc="-1" strike="noStrike">
                <a:solidFill>
                  <a:srgbClr val="464646"/>
                </a:solidFill>
                <a:latin typeface="Lucida Sans Unicode"/>
              </a:rPr>
              <a:t>and Beatri</a:t>
            </a:r>
            <a:r>
              <a:rPr b="0" lang="en-US" sz="2200" spc="-1" strike="noStrike">
                <a:solidFill>
                  <a:srgbClr val="464646"/>
                </a:solidFill>
                <a:latin typeface="Lucida Sans Unicode"/>
              </a:rPr>
              <a:t>c</a:t>
            </a:r>
            <a:r>
              <a:rPr b="0" lang="lt-LT" sz="2200" spc="-1" strike="noStrike">
                <a:solidFill>
                  <a:srgbClr val="464646"/>
                </a:solidFill>
                <a:latin typeface="Lucida Sans Unicode"/>
              </a:rPr>
              <a:t>e Mik</a:t>
            </a:r>
            <a:r>
              <a:rPr b="0" lang="en-US" sz="2200" spc="-1" strike="noStrike">
                <a:solidFill>
                  <a:srgbClr val="464646"/>
                </a:solidFill>
                <a:latin typeface="Lucida Sans Unicode"/>
              </a:rPr>
              <a:t>s</a:t>
            </a:r>
            <a:r>
              <a:rPr b="0" lang="lt-LT" sz="2200" spc="-1" strike="noStrike">
                <a:solidFill>
                  <a:srgbClr val="464646"/>
                </a:solidFill>
                <a:latin typeface="Lucida Sans Unicode"/>
              </a:rPr>
              <a:t>yt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200" spc="-1" strike="noStrike">
                <a:solidFill>
                  <a:srgbClr val="464646"/>
                </a:solidFill>
                <a:latin typeface="Lucida Sans Unicode"/>
              </a:rPr>
              <a:t>Panevezys Juozas Balcikonis Gymnasium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200" spc="-1" strike="noStrike">
                <a:solidFill>
                  <a:srgbClr val="464646"/>
                </a:solidFill>
                <a:latin typeface="Lucida Sans Unicode"/>
              </a:rPr>
              <a:t>2011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Rectangle 6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6840" y="148104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Lucida Sans Unicode"/>
              </a:rPr>
              <a:t>Drug affected driving is fined withdrawing a driving license or imprisonmen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0" algn="ctr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648320" y="14810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Picture 065"/>
          <p:cNvPicPr/>
          <p:nvPr/>
        </p:nvPicPr>
        <p:blipFill>
          <a:blip r:embed="rId3"/>
          <a:stretch/>
        </p:blipFill>
        <p:spPr>
          <a:xfrm>
            <a:off x="4932360" y="1773360"/>
            <a:ext cx="3054240" cy="42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Rectangle 7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9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900" spc="-1" strike="noStrike">
                <a:solidFill>
                  <a:srgbClr val="000000"/>
                </a:solidFill>
                <a:latin typeface="Lucida Sans Unicode"/>
              </a:rPr>
              <a:t>Drugs trafficing is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punished by imprisonment from three to ten years</a:t>
            </a:r>
            <a:r>
              <a:rPr b="0" lang="lt-LT" sz="2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648320" y="14810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Picture 086"/>
          <p:cNvPicPr/>
          <p:nvPr/>
        </p:nvPicPr>
        <p:blipFill>
          <a:blip r:embed="rId3"/>
          <a:stretch/>
        </p:blipFill>
        <p:spPr>
          <a:xfrm>
            <a:off x="5003640" y="1628640"/>
            <a:ext cx="3208320" cy="446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Title 2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40760" cy="1500120"/>
          </a:xfrm>
          <a:prstGeom prst="rect">
            <a:avLst/>
          </a:prstGeom>
          <a:ln w="0">
            <a:noFill/>
          </a:ln>
        </p:spPr>
      </p:pic>
      <p:pic>
        <p:nvPicPr>
          <p:cNvPr id="269" name="Content Placeholder 5" descr="wiki_Balcikonio_gimnazija.JPG"/>
          <p:cNvPicPr/>
          <p:nvPr/>
        </p:nvPicPr>
        <p:blipFill>
          <a:blip r:embed="rId2"/>
          <a:stretch/>
        </p:blipFill>
        <p:spPr>
          <a:xfrm>
            <a:off x="1619280" y="2133720"/>
            <a:ext cx="5904000" cy="3166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55600" algn="ctr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Lucida Sans Unicode"/>
              </a:rPr>
              <a:t>No smoking in the territory of Juozas Balcikonis gymnasium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4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72" name="Picture 8" descr="DSCF8574"/>
          <p:cNvPicPr/>
          <p:nvPr/>
        </p:nvPicPr>
        <p:blipFill>
          <a:blip r:embed="rId1"/>
          <a:stretch/>
        </p:blipFill>
        <p:spPr>
          <a:xfrm>
            <a:off x="1908000" y="2421000"/>
            <a:ext cx="5545440" cy="331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Lucida Sans Unicode"/>
              </a:rPr>
              <a:t>Project called “Reasons and consequences  of using drugs”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Lucida Sans Unicode"/>
              </a:rPr>
              <a:t>Drugs prevention lesson to 1st Formers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Lucida Sans Unicode"/>
              </a:rPr>
              <a:t>Analysis of the students’ opinion 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Lucida Sans Unicode"/>
              </a:rPr>
              <a:t>Interview with the headmaster, nurse, the President of our School Parliament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Lucida Sans Unicode"/>
              </a:rPr>
              <a:t>Analysis of the material available on drugs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4" name="Title 2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4076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55600" algn="ctr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76" name="Title 2" descr=""/>
          <p:cNvPicPr/>
          <p:nvPr/>
        </p:nvPicPr>
        <p:blipFill>
          <a:blip r:embed="rId1"/>
          <a:stretch/>
        </p:blipFill>
        <p:spPr>
          <a:xfrm>
            <a:off x="463680" y="255600"/>
            <a:ext cx="8242200" cy="13413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pamoka"/>
          <p:cNvPicPr/>
          <p:nvPr/>
        </p:nvPicPr>
        <p:blipFill>
          <a:blip r:embed="rId2"/>
          <a:stretch/>
        </p:blipFill>
        <p:spPr>
          <a:xfrm>
            <a:off x="2484360" y="2133720"/>
            <a:ext cx="4321080" cy="3429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ctangle 5" descr=""/>
          <p:cNvPicPr/>
          <p:nvPr/>
        </p:nvPicPr>
        <p:blipFill>
          <a:blip r:embed="rId1"/>
          <a:stretch/>
        </p:blipFill>
        <p:spPr>
          <a:xfrm>
            <a:off x="444600" y="334800"/>
            <a:ext cx="8388360" cy="1219320"/>
          </a:xfrm>
          <a:prstGeom prst="rect">
            <a:avLst/>
          </a:prstGeom>
          <a:ln w="0">
            <a:noFill/>
          </a:ln>
        </p:spPr>
      </p:pic>
      <p:pic>
        <p:nvPicPr>
          <p:cNvPr id="279" name="Object 2" descr=""/>
          <p:cNvPicPr/>
          <p:nvPr/>
        </p:nvPicPr>
        <p:blipFill>
          <a:blip r:embed="rId2"/>
          <a:stretch/>
        </p:blipFill>
        <p:spPr>
          <a:xfrm>
            <a:off x="1476360" y="1700280"/>
            <a:ext cx="6286680" cy="419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5" descr=""/>
          <p:cNvPicPr/>
          <p:nvPr/>
        </p:nvPicPr>
        <p:blipFill>
          <a:blip r:embed="rId1"/>
          <a:stretch/>
        </p:blipFill>
        <p:spPr>
          <a:xfrm>
            <a:off x="463680" y="79200"/>
            <a:ext cx="8242200" cy="1663920"/>
          </a:xfrm>
          <a:prstGeom prst="rect">
            <a:avLst/>
          </a:prstGeom>
          <a:ln w="0">
            <a:noFill/>
          </a:ln>
        </p:spPr>
      </p:pic>
      <p:pic>
        <p:nvPicPr>
          <p:cNvPr id="281" name="Object 2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6091200" cy="406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pic>
        <p:nvPicPr>
          <p:cNvPr id="283" name="Object 2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8459640" cy="56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25440"/>
          </a:xfrm>
          <a:prstGeom prst="rect">
            <a:avLst/>
          </a:prstGeom>
          <a:ln w="0">
            <a:noFill/>
          </a:ln>
        </p:spPr>
      </p:pic>
      <p:pic>
        <p:nvPicPr>
          <p:cNvPr id="285" name="Object 2" descr=""/>
          <p:cNvPicPr/>
          <p:nvPr/>
        </p:nvPicPr>
        <p:blipFill>
          <a:blip r:embed="rId2"/>
          <a:stretch/>
        </p:blipFill>
        <p:spPr>
          <a:xfrm>
            <a:off x="1525680" y="1711440"/>
            <a:ext cx="6243480" cy="41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5560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Lucida Sans Unicode"/>
              </a:rPr>
              <a:t>Lithuanian law on drugs, alcohol and tobacco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Lucida Sans Unicode"/>
              </a:rPr>
              <a:t>National prevention campaign and prevention campaign in Juozas Balcikonis gymnasium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2" descr=""/>
          <p:cNvPicPr/>
          <p:nvPr/>
        </p:nvPicPr>
        <p:blipFill>
          <a:blip r:embed="rId1"/>
          <a:stretch/>
        </p:blipFill>
        <p:spPr>
          <a:xfrm>
            <a:off x="146160" y="244440"/>
            <a:ext cx="8912160" cy="11635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Picture1"/>
          <p:cNvPicPr/>
          <p:nvPr/>
        </p:nvPicPr>
        <p:blipFill>
          <a:blip r:embed="rId2"/>
          <a:stretch/>
        </p:blipFill>
        <p:spPr>
          <a:xfrm>
            <a:off x="1403280" y="1916280"/>
            <a:ext cx="6048360" cy="403380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9"/>
          <p:cNvSpPr/>
          <p:nvPr/>
        </p:nvSpPr>
        <p:spPr>
          <a:xfrm rot="337200">
            <a:off x="394920" y="2628720"/>
            <a:ext cx="1662120" cy="919080"/>
          </a:xfrm>
          <a:prstGeom prst="cloudCallout">
            <a:avLst>
              <a:gd name="adj1" fmla="val 74023"/>
              <a:gd name="adj2" fmla="val 96222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The need to fit 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0"/>
          <p:cNvSpPr/>
          <p:nvPr/>
        </p:nvSpPr>
        <p:spPr>
          <a:xfrm rot="18272400">
            <a:off x="1726560" y="1521000"/>
            <a:ext cx="936720" cy="1295640"/>
          </a:xfrm>
          <a:prstGeom prst="cloudCallout">
            <a:avLst>
              <a:gd name="adj1" fmla="val -69337"/>
              <a:gd name="adj2" fmla="val 128231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Alcoholism in the fami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1"/>
          <p:cNvSpPr/>
          <p:nvPr/>
        </p:nvSpPr>
        <p:spPr>
          <a:xfrm rot="18889800">
            <a:off x="3333240" y="1929960"/>
            <a:ext cx="863640" cy="1368360"/>
          </a:xfrm>
          <a:prstGeom prst="cloudCallout">
            <a:avLst>
              <a:gd name="adj1" fmla="val -60837"/>
              <a:gd name="adj2" fmla="val 99412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Low self-este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2"/>
          <p:cNvSpPr/>
          <p:nvPr/>
        </p:nvSpPr>
        <p:spPr>
          <a:xfrm rot="16200000">
            <a:off x="7236360" y="1845360"/>
            <a:ext cx="1224000" cy="1800360"/>
          </a:xfrm>
          <a:prstGeom prst="cloudCallout">
            <a:avLst>
              <a:gd name="adj1" fmla="val -104736"/>
              <a:gd name="adj2" fmla="val -45416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1500" spc="-1" strike="noStrike">
                <a:solidFill>
                  <a:srgbClr val="000000"/>
                </a:solidFill>
                <a:latin typeface="Arial"/>
              </a:rPr>
              <a:t>The constant need to feel pleasu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3"/>
          <p:cNvSpPr/>
          <p:nvPr/>
        </p:nvSpPr>
        <p:spPr>
          <a:xfrm rot="4241400">
            <a:off x="5272920" y="1296720"/>
            <a:ext cx="935280" cy="1824120"/>
          </a:xfrm>
          <a:prstGeom prst="cloudCallout">
            <a:avLst>
              <a:gd name="adj1" fmla="val 182101"/>
              <a:gd name="adj2" fmla="val 30916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Arial"/>
              </a:rPr>
              <a:t>Psychological reas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Content Placeholder 1" descr=""/>
          <p:cNvPicPr/>
          <p:nvPr/>
        </p:nvPicPr>
        <p:blipFill>
          <a:blip r:embed="rId1"/>
          <a:stretch/>
        </p:blipFill>
        <p:spPr>
          <a:xfrm>
            <a:off x="469800" y="1487520"/>
            <a:ext cx="8240760" cy="4535280"/>
          </a:xfrm>
          <a:prstGeom prst="rect">
            <a:avLst/>
          </a:prstGeom>
          <a:ln w="0">
            <a:noFill/>
          </a:ln>
        </p:spPr>
      </p:pic>
      <p:pic>
        <p:nvPicPr>
          <p:cNvPr id="294" name="Title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pam"/>
          <p:cNvPicPr/>
          <p:nvPr/>
        </p:nvPicPr>
        <p:blipFill>
          <a:blip r:embed="rId3"/>
          <a:stretch/>
        </p:blipFill>
        <p:spPr>
          <a:xfrm>
            <a:off x="4716360" y="1916280"/>
            <a:ext cx="3819600" cy="347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3" descr="DSC07700"/>
          <p:cNvPicPr/>
          <p:nvPr/>
        </p:nvPicPr>
        <p:blipFill>
          <a:blip r:embed="rId2"/>
          <a:stretch/>
        </p:blipFill>
        <p:spPr>
          <a:xfrm>
            <a:off x="4427640" y="1989000"/>
            <a:ext cx="4365360" cy="367344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9"/>
          <p:cNvSpPr/>
          <p:nvPr/>
        </p:nvSpPr>
        <p:spPr>
          <a:xfrm rot="17276400">
            <a:off x="1783800" y="887040"/>
            <a:ext cx="1946520" cy="3429000"/>
          </a:xfrm>
          <a:prstGeom prst="cloudCallout">
            <a:avLst>
              <a:gd name="adj1" fmla="val -9675"/>
              <a:gd name="adj2" fmla="val 91981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 really enjoyed the lesson. It was fun, original and I also had to think. Thank for for the lesson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2"/>
          <p:cNvSpPr/>
          <p:nvPr/>
        </p:nvSpPr>
        <p:spPr>
          <a:xfrm rot="11539800">
            <a:off x="468000" y="3715920"/>
            <a:ext cx="3822480" cy="2249640"/>
          </a:xfrm>
          <a:prstGeom prst="cloudCallout">
            <a:avLst>
              <a:gd name="adj1" fmla="val -63787"/>
              <a:gd name="adj2" fmla="val 51986"/>
            </a:avLst>
          </a:prstGeom>
          <a:solidFill>
            <a:srgbClr val="2da2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my opinion this lesson was valuable, because during the lesson, the students found really interesting facts about drugs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55600" algn="ctr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1" name="Title 2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59840" cy="11523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jhgfjy.jpg"/>
          <p:cNvPicPr/>
          <p:nvPr/>
        </p:nvPicPr>
        <p:blipFill>
          <a:blip r:embed="rId2"/>
          <a:stretch/>
        </p:blipFill>
        <p:spPr>
          <a:xfrm>
            <a:off x="4716360" y="2276640"/>
            <a:ext cx="3786120" cy="31701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DSCF8577"/>
          <p:cNvPicPr/>
          <p:nvPr/>
        </p:nvPicPr>
        <p:blipFill>
          <a:blip r:embed="rId3"/>
          <a:stretch/>
        </p:blipFill>
        <p:spPr>
          <a:xfrm>
            <a:off x="611280" y="2276640"/>
            <a:ext cx="3786120" cy="31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55600" algn="ctr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lt-LT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lt-LT" sz="2700" spc="-1" strike="noStrike">
                <a:solidFill>
                  <a:srgbClr val="000000"/>
                </a:solidFill>
                <a:latin typeface="Lucida Sans Unicode"/>
              </a:rPr>
              <a:t>You are young, enjoy your time without alcohol, don’t pollute your body and you will have no need to clean it”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5" name="Title 2" descr=""/>
          <p:cNvPicPr/>
          <p:nvPr/>
        </p:nvPicPr>
        <p:blipFill>
          <a:blip r:embed="rId1"/>
          <a:stretch/>
        </p:blipFill>
        <p:spPr>
          <a:xfrm>
            <a:off x="249120" y="262080"/>
            <a:ext cx="8467920" cy="1152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9" descr="DSC01822"/>
          <p:cNvPicPr/>
          <p:nvPr/>
        </p:nvPicPr>
        <p:blipFill>
          <a:blip r:embed="rId2"/>
          <a:stretch/>
        </p:blipFill>
        <p:spPr>
          <a:xfrm>
            <a:off x="3492360" y="2852640"/>
            <a:ext cx="259236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55600" algn="ctr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lt-LT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lt-LT" sz="2700" spc="-1" strike="noStrike">
                <a:solidFill>
                  <a:srgbClr val="000000"/>
                </a:solidFill>
                <a:latin typeface="Lucida Sans Unicode"/>
              </a:rPr>
              <a:t>Be children, be cheerful young people. Understand that the world is wonderful without a cigarette and you can have fun without a bottle in your hand”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08" name="Title 2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40760" cy="1152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DSC01821"/>
          <p:cNvPicPr/>
          <p:nvPr/>
        </p:nvPicPr>
        <p:blipFill>
          <a:blip r:embed="rId2"/>
          <a:stretch/>
        </p:blipFill>
        <p:spPr>
          <a:xfrm>
            <a:off x="2843280" y="3357720"/>
            <a:ext cx="3997080" cy="297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68360" y="191628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55600" algn="ctr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Beans have lost the power of germina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1" name="Title 2" descr=""/>
          <p:cNvPicPr/>
          <p:nvPr/>
        </p:nvPicPr>
        <p:blipFill>
          <a:blip r:embed="rId1"/>
          <a:stretch/>
        </p:blipFill>
        <p:spPr>
          <a:xfrm>
            <a:off x="603360" y="324000"/>
            <a:ext cx="8242200" cy="13395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ppos.jpg"/>
          <p:cNvPicPr/>
          <p:nvPr/>
        </p:nvPicPr>
        <p:blipFill>
          <a:blip r:embed="rId2"/>
          <a:stretch/>
        </p:blipFill>
        <p:spPr>
          <a:xfrm>
            <a:off x="2843280" y="2924280"/>
            <a:ext cx="3625920" cy="30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2440" indent="-247680" algn="ctr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-247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-247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-247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2440" indent="-247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400" spc="-1" strike="noStrike" u="sng">
                <a:solidFill>
                  <a:srgbClr val="ff8119"/>
                </a:solidFill>
                <a:uFillTx/>
                <a:latin typeface="Arial"/>
                <a:hlinkClick r:id="rId1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4" name="Title 2" descr=""/>
          <p:cNvPicPr/>
          <p:nvPr/>
        </p:nvPicPr>
        <p:blipFill>
          <a:blip r:embed="rId2"/>
          <a:stretch/>
        </p:blipFill>
        <p:spPr>
          <a:xfrm>
            <a:off x="463680" y="255600"/>
            <a:ext cx="8242200" cy="13413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Ia.JPG"/>
          <p:cNvPicPr/>
          <p:nvPr/>
        </p:nvPicPr>
        <p:blipFill>
          <a:blip r:embed="rId3"/>
          <a:stretch/>
        </p:blipFill>
        <p:spPr>
          <a:xfrm>
            <a:off x="2411280" y="1989000"/>
            <a:ext cx="4608720" cy="350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88416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18" name="Picture 4" descr="E:\DCIM\100_FUJI\DSCF8590.JPG"/>
          <p:cNvPicPr/>
          <p:nvPr/>
        </p:nvPicPr>
        <p:blipFill>
          <a:blip r:embed="rId2"/>
          <a:stretch/>
        </p:blipFill>
        <p:spPr>
          <a:xfrm>
            <a:off x="5435640" y="1413000"/>
            <a:ext cx="3186000" cy="424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5" descr="E:\DCIM\100_FUJI\DSCF8579.JPG"/>
          <p:cNvPicPr/>
          <p:nvPr/>
        </p:nvPicPr>
        <p:blipFill>
          <a:blip r:embed="rId3"/>
          <a:stretch/>
        </p:blipFill>
        <p:spPr>
          <a:xfrm>
            <a:off x="468360" y="1916280"/>
            <a:ext cx="4705200" cy="35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55600" algn="ctr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 algn="ctr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lt-LT" sz="36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Life in itself is neither good nor evil, it is the place of good and evil, according to what you make it</a:t>
            </a:r>
            <a:r>
              <a:rPr b="0" lang="lt-LT" sz="3600" spc="-1" strike="noStrike">
                <a:solidFill>
                  <a:srgbClr val="000000"/>
                </a:solidFill>
                <a:latin typeface="Lucida Sans Unicode"/>
              </a:rPr>
              <a:t>”.</a:t>
            </a:r>
            <a:br>
              <a:rPr sz="3600"/>
            </a:br>
            <a:r>
              <a:rPr b="0" lang="lt-LT" sz="3600" spc="-1" strike="noStrike">
                <a:solidFill>
                  <a:srgbClr val="000000"/>
                </a:solidFill>
                <a:latin typeface="Lucida Sans Unicode"/>
              </a:rPr>
              <a:t>                                 </a:t>
            </a:r>
            <a:r>
              <a:rPr b="0" lang="lt-LT" sz="2800" spc="-1" strike="noStrike">
                <a:solidFill>
                  <a:srgbClr val="000000"/>
                </a:solidFill>
                <a:latin typeface="Lucida Sans Unicode"/>
              </a:rPr>
              <a:t>M. de Montaig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ontent Placeholder 1" descr=""/>
          <p:cNvPicPr/>
          <p:nvPr/>
        </p:nvPicPr>
        <p:blipFill>
          <a:blip r:embed="rId1"/>
          <a:stretch/>
        </p:blipFill>
        <p:spPr>
          <a:xfrm>
            <a:off x="469800" y="1066680"/>
            <a:ext cx="8240760" cy="4932360"/>
          </a:xfrm>
          <a:prstGeom prst="rect">
            <a:avLst/>
          </a:prstGeom>
          <a:ln w="0">
            <a:noFill/>
          </a:ln>
        </p:spPr>
      </p:pic>
      <p:pic>
        <p:nvPicPr>
          <p:cNvPr id="237" name="Title 2" descr=""/>
          <p:cNvPicPr/>
          <p:nvPr/>
        </p:nvPicPr>
        <p:blipFill>
          <a:blip r:embed="rId2"/>
          <a:stretch/>
        </p:blipFill>
        <p:spPr>
          <a:xfrm>
            <a:off x="426960" y="25560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valan.jpg"/>
          <p:cNvPicPr/>
          <p:nvPr/>
        </p:nvPicPr>
        <p:blipFill>
          <a:blip r:embed="rId3"/>
          <a:stretch/>
        </p:blipFill>
        <p:spPr>
          <a:xfrm>
            <a:off x="4859280" y="1571760"/>
            <a:ext cx="3095640" cy="4452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55600" algn="ctr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 algn="ctr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6600" spc="-1" strike="noStrike">
                <a:solidFill>
                  <a:srgbClr val="000000"/>
                </a:solidFill>
                <a:latin typeface="Lucida Sans Unicode"/>
              </a:rPr>
              <a:t>Thank You for Your attention</a:t>
            </a:r>
            <a:endParaRPr b="0" lang="en-US" sz="6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Rectangle 2" descr=""/>
          <p:cNvPicPr/>
          <p:nvPr/>
        </p:nvPicPr>
        <p:blipFill>
          <a:blip r:embed="rId1"/>
          <a:stretch/>
        </p:blipFill>
        <p:spPr>
          <a:xfrm>
            <a:off x="463680" y="328680"/>
            <a:ext cx="8242200" cy="1536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Statistika"/>
          <p:cNvPicPr/>
          <p:nvPr/>
        </p:nvPicPr>
        <p:blipFill>
          <a:blip r:embed="rId2"/>
          <a:stretch/>
        </p:blipFill>
        <p:spPr>
          <a:xfrm>
            <a:off x="1116000" y="1989000"/>
            <a:ext cx="6913440" cy="24242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8"/>
          <p:cNvSpPr/>
          <p:nvPr/>
        </p:nvSpPr>
        <p:spPr>
          <a:xfrm>
            <a:off x="1332000" y="479736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Lucida Sans Unicode"/>
              </a:rPr>
              <a:t>In  2009, 68 people (62 men and 6 women) died from overdosing drugs. Compared to 2008, the number of deaths has increa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365040" y="268200"/>
            <a:ext cx="8400960" cy="1158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457200" y="148104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4648320" y="1481040"/>
            <a:ext cx="4038480" cy="21859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4"/>
          <a:stretch/>
        </p:blipFill>
        <p:spPr>
          <a:xfrm>
            <a:off x="457200" y="381960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5"/>
          <a:stretch/>
        </p:blipFill>
        <p:spPr>
          <a:xfrm>
            <a:off x="4648320" y="381960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Picture1"/>
          <p:cNvPicPr/>
          <p:nvPr/>
        </p:nvPicPr>
        <p:blipFill>
          <a:blip r:embed="rId6"/>
          <a:stretch/>
        </p:blipFill>
        <p:spPr>
          <a:xfrm>
            <a:off x="1187280" y="1557360"/>
            <a:ext cx="6626520" cy="42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Content Placeholder 3" descr="Quit smoking.jpg"/>
          <p:cNvPicPr/>
          <p:nvPr/>
        </p:nvPicPr>
        <p:blipFill>
          <a:blip r:embed="rId1"/>
          <a:stretch/>
        </p:blipFill>
        <p:spPr>
          <a:xfrm>
            <a:off x="1332000" y="2635200"/>
            <a:ext cx="2741400" cy="2743200"/>
          </a:xfrm>
          <a:prstGeom prst="rect">
            <a:avLst/>
          </a:prstGeom>
          <a:ln w="0">
            <a:noFill/>
          </a:ln>
        </p:spPr>
      </p:pic>
      <p:pic>
        <p:nvPicPr>
          <p:cNvPr id="249" name="Title 2" descr=""/>
          <p:cNvPicPr/>
          <p:nvPr/>
        </p:nvPicPr>
        <p:blipFill>
          <a:blip r:embed="rId2"/>
          <a:stretch/>
        </p:blipFill>
        <p:spPr>
          <a:xfrm>
            <a:off x="201600" y="268200"/>
            <a:ext cx="8734320" cy="18525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drugs.jpg"/>
          <p:cNvPicPr/>
          <p:nvPr/>
        </p:nvPicPr>
        <p:blipFill>
          <a:blip r:embed="rId3"/>
          <a:stretch/>
        </p:blipFill>
        <p:spPr>
          <a:xfrm>
            <a:off x="5003640" y="2637000"/>
            <a:ext cx="2382840" cy="26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15" descr=""/>
          <p:cNvPicPr/>
          <p:nvPr/>
        </p:nvPicPr>
        <p:blipFill>
          <a:blip r:embed="rId1"/>
          <a:stretch/>
        </p:blipFill>
        <p:spPr>
          <a:xfrm>
            <a:off x="201600" y="60480"/>
            <a:ext cx="8734320" cy="1450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t-LT" sz="2900" spc="-1" strike="noStrike">
                <a:solidFill>
                  <a:srgbClr val="000000"/>
                </a:solidFill>
                <a:latin typeface="Lucida Sans Unicode"/>
              </a:rPr>
              <a:t>Alcohol and tobacco in Lithuania are not sold to people under 18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648320" y="14810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254" name="Picture 18" descr="impact_image1"/>
          <p:cNvPicPr/>
          <p:nvPr/>
        </p:nvPicPr>
        <p:blipFill>
          <a:blip r:embed="rId2"/>
          <a:stretch/>
        </p:blipFill>
        <p:spPr>
          <a:xfrm>
            <a:off x="4932360" y="1700280"/>
            <a:ext cx="3087720" cy="4392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3567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55600" algn="ctr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 algn="ctr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Lucida Sans Unicode"/>
              </a:rPr>
              <a:t>Drugs, alcohol and tobacco advertisments are forbidden in Lithuan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57" name="Picture 3" descr="Stop.jpeg"/>
          <p:cNvPicPr/>
          <p:nvPr/>
        </p:nvPicPr>
        <p:blipFill>
          <a:blip r:embed="rId1"/>
          <a:stretch/>
        </p:blipFill>
        <p:spPr>
          <a:xfrm>
            <a:off x="2916360" y="2786040"/>
            <a:ext cx="335916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-255600" algn="ctr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Lucida Sans Unicode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ve basketball  </a:t>
            </a:r>
            <a:r>
              <a:rPr b="0" lang="lt-LT" sz="3200" spc="-1" strike="noStrike">
                <a:solidFill>
                  <a:srgbClr val="000000"/>
                </a:solidFill>
                <a:latin typeface="Lucida Sans Unicode"/>
              </a:rPr>
              <a:t>was not allowed on TV due to 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rohibition of drug advertisement</a:t>
            </a:r>
            <a:r>
              <a:rPr b="0" lang="lt-LT" sz="32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 algn="ctr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 algn="ctr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lt-LT" sz="32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M</a:t>
            </a:r>
            <a:r>
              <a:rPr b="0" lang="en-US" sz="32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ovi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444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2:47:03Z</dcterms:created>
  <dc:creator>Dell</dc:creator>
  <dc:description/>
  <dc:language>en-US</dc:language>
  <cp:lastModifiedBy>alumno</cp:lastModifiedBy>
  <dcterms:modified xsi:type="dcterms:W3CDTF">2011-02-21T18:26:09Z</dcterms:modified>
  <cp:revision>86</cp:revision>
  <dc:subject/>
  <dc:title>Narkotinės medžiagos: įstatymai ir prevencija</dc:title>
</cp:coreProperties>
</file>